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7ADC9BE-79F7-4B42-A62A-65E3797E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wa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ets 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C9F-C733-4F34-A6C6-A56B94F3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94E-6F01-466A-B9B8-D0AFC37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6B7-8E64-4B07-906A-82D1A3D5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353-5756-421F-B6B0-662FB396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09E1-BC5E-4142-B7F0-86584F8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A387-CE20-43C9-AD75-C7A5AF5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543-D810-47C4-B702-E6D8082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DCFE-9C3E-4D8B-9E41-E89A8C0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34F8-204B-42BB-B425-4D7A21D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7D2E-432A-4236-8B80-210B2BA9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81F8-ED25-4897-A60D-A57F98B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F1D-6860-4ADB-80F8-68E6763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E600-F079-495D-A549-026105FA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0CFE-7932-42BF-B48B-048E996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5391-756F-442B-A928-DF97888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3CF-740A-4819-B741-324EBB06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3E30-C3BE-468A-ACAD-3A4CB2F5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653-1E1C-4720-9E6E-5C17128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12E-CEB7-4DBB-92CB-94A2ED19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482-DFE4-4A22-912D-4A83FAB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78F-82CD-43FD-91B7-AB2E6F5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C58-E14A-4F59-8F28-3847172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848-9EA1-43AB-AD5B-9FC2700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426-E1CA-4FB5-B9E2-0761D71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C041-823C-4657-97BF-F1D55BBBC61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2FC-F772-4452-8ECB-27EC672D102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D1B-26F5-40BA-A042-A2CE8C37875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Day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760" y="1249200"/>
            <a:ext cx="83660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Develop an Understanding of how the Big Ideas from Patterning to Algebraic Reasoning connect to Line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Develop an Understanding of the Big Ideas that are unique to Linear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Provide Differentiated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Use Literacy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Effective Use of Technology and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Build a Math-Talk Learning Community                               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19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rom Patterning to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or Linear Fun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s are mathematical descriptions of relationships that change at a steady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pieces of information (e.g. 2 points, slope and a point) are needed to uniquely define a linear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92320" y="1724040"/>
            <a:ext cx="6610320" cy="513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9237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  <a:ea typeface="Arial"/>
              </a:rPr>
              <a:t>Which Link to the Big Ideas for Linear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1066800">
            <a:off x="712440" y="3920760"/>
            <a:ext cx="1936800" cy="2541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398600"/>
            <a:ext cx="51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, identify the      Big Idea that it is associated with,     and post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89520" y="130968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6560" y="2798640"/>
            <a:ext cx="4126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the highligh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6200" y="884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 overall expectations link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886600">
            <a:off x="4859280" y="2519280"/>
            <a:ext cx="206856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995400">
            <a:off x="6575040" y="3773160"/>
            <a:ext cx="1851120" cy="24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255420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1: Identify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200" y="3711600"/>
            <a:ext cx="377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2:  Select or Cre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 on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r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00:50:50Z</dcterms:modified>
  <cp:revision>112</cp:revision>
  <dc:subject/>
  <dc:title>Math GAINS 2008-09</dc:title>
</cp:coreProperties>
</file>